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9DB8A-A49C-4D60-83EF-6338DA1B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FDB5-18C2-4C2D-8250-97EEDE31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7BEEB-EFCD-4E9F-9BC7-4AEB5E1B9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BD071-AF02-49CD-A689-6F8D96905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7D0DD-B10B-4999-8208-EBF72216E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F129C-8D47-4683-9B9D-EFE26C3BC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DB24A-63D9-4396-8572-F1F9F3B19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A0CED-A1CC-4C3D-B4CA-32C900F9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4BE25-8893-4F90-9C60-EBA3F5816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D977-C1F2-49C3-B81B-362B5C6DC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2D37B-7623-449D-8298-47E081390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B922E-24C0-4CD4-8502-17C763D6F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32C4A-B97A-4BE9-968B-6C4417A4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93A3-80E2-4535-895F-F0636EE7E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84AC6-022F-4263-8482-139F79874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7C5FA-5224-40CA-B958-E4779504A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60177-F729-4781-AF96-F8BF886E4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34DE-3D48-4E44-A225-494EA3F8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19A08-1CFF-4368-90D8-313235CA8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2582-8F4B-49A1-8F2A-233A8E9CA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F798-4CD0-4B30-BBE3-98864872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913C-BFBD-4AB4-8D6B-B066BAC6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AF346-8175-4C7E-A930-8465154CF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2285-6EE5-4BED-9189-B8BE17239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1E41-F507-4316-A9E2-D65FC8EB10B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9765-9F77-45EA-A1B6-4A9EA71DD54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4" name="" descr=""/>
          <p:cNvPicPr/>
          <p:nvPr/>
        </p:nvPicPr>
        <p:blipFill>
          <a:blip r:embed="rId1"/>
          <a:stretch/>
        </p:blipFill>
        <p:spPr>
          <a:xfrm>
            <a:off x="5651640" y="3284640"/>
            <a:ext cx="2276280" cy="2276280"/>
          </a:xfrm>
          <a:prstGeom prst="rect">
            <a:avLst/>
          </a:prstGeom>
          <a:ln w="0">
            <a:noFill/>
          </a:ln>
        </p:spPr>
      </p:pic>
      <p:pic>
        <p:nvPicPr>
          <p:cNvPr id="115" name="" descr=""/>
          <p:cNvPicPr/>
          <p:nvPr/>
        </p:nvPicPr>
        <p:blipFill>
          <a:blip r:embed="rId2"/>
          <a:stretch/>
        </p:blipFill>
        <p:spPr>
          <a:xfrm>
            <a:off x="611280" y="3284640"/>
            <a:ext cx="2152440" cy="2449440"/>
          </a:xfrm>
          <a:prstGeom prst="rect">
            <a:avLst/>
          </a:prstGeom>
          <a:ln w="0">
            <a:noFill/>
          </a:ln>
        </p:spPr>
      </p:pic>
      <p:pic>
        <p:nvPicPr>
          <p:cNvPr id="116"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21"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2"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4"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Decision~</a:t>
            </a:r>
            <a:br>
              <a:rPr sz="4000"/>
            </a:br>
            <a:endParaRPr b="0" lang="en-US" sz="4000" spc="-1" strike="noStrike">
              <a:solidFill>
                <a:srgbClr val="ffffff"/>
              </a:solidFill>
              <a:latin typeface="Times New Roman"/>
            </a:endParaRPr>
          </a:p>
        </p:txBody>
      </p:sp>
      <p:sp>
        <p:nvSpPr>
          <p:cNvPr id="126"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meter over 1m should be all sensible because it is big enough for people to work in and it would be stabled enoug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for the water tank we might decide to have 4 or 5meter for the diameter because it is too high if we use 2meter for our diamet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meter, height=23.40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eter, height=14.98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800" spc="-1" strike="noStrike">
              <a:solidFill>
                <a:srgbClr val="ffffff"/>
              </a:solidFill>
              <a:latin typeface="Arial"/>
            </a:endParaRPr>
          </a:p>
        </p:txBody>
      </p:sp>
      <p:sp>
        <p:nvSpPr>
          <p:cNvPr id="127"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8"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30" name="" descr=""/>
          <p:cNvPicPr/>
          <p:nvPr/>
        </p:nvPicPr>
        <p:blipFill>
          <a:blip r:embed="rId1"/>
          <a:stretch/>
        </p:blipFill>
        <p:spPr>
          <a:xfrm>
            <a:off x="539640" y="1844640"/>
            <a:ext cx="4246560" cy="4097520"/>
          </a:xfrm>
          <a:prstGeom prst="rect">
            <a:avLst/>
          </a:prstGeom>
          <a:ln w="0">
            <a:noFill/>
          </a:ln>
        </p:spPr>
      </p:pic>
      <p:sp>
        <p:nvSpPr>
          <p:cNvPr id="131" name=""/>
          <p:cNvSpPr/>
          <p:nvPr/>
        </p:nvSpPr>
        <p:spPr>
          <a:xfrm>
            <a:off x="4932360" y="1700280"/>
            <a:ext cx="31669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how our water tank will look like, it has 5m for its diameter and 15m of heigh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the concrete part has been changed, it is 1m longer than the diameter to keep it more stabl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lso increased the amount of metal sheet on the bottom to 2 because we are storing water and we need thicker metals to hold i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we have a new cos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668.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3" name="" descr=""/>
          <p:cNvPicPr/>
          <p:nvPr/>
        </p:nvPicPr>
        <p:blipFill>
          <a:blip r:embed="rId1"/>
          <a:stretch/>
        </p:blipFill>
        <p:spPr>
          <a:xfrm>
            <a:off x="539640" y="1844640"/>
            <a:ext cx="4167360" cy="3989520"/>
          </a:xfrm>
          <a:prstGeom prst="rect">
            <a:avLst/>
          </a:prstGeom>
          <a:ln w="0">
            <a:noFill/>
          </a:ln>
        </p:spPr>
      </p:pic>
      <p:sp>
        <p:nvSpPr>
          <p:cNvPr id="134" name=""/>
          <p:cNvSpPr/>
          <p:nvPr/>
        </p:nvSpPr>
        <p:spPr>
          <a:xfrm>
            <a:off x="5076720" y="1989000"/>
            <a:ext cx="338292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is facility we also decided to have some extra concrete therefore our new cost will b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92.4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668.50</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92.41</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Cost</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total cost for both facilities is </a:t>
            </a:r>
            <a:r>
              <a:rPr b="1" lang="en-US" sz="3200" spc="-1" strike="noStrike" u="sng">
                <a:solidFill>
                  <a:srgbClr val="ffffff"/>
                </a:solidFill>
                <a:uFillTx/>
                <a:latin typeface="Arial"/>
              </a:rPr>
              <a:t>$8860.9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 tried our best to keep the price as low as possible and keeping the facility safe, easy to use and construct</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40"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alories Per Day interview. 29 Nov. 2008.</a:t>
            </a:r>
            <a:r>
              <a:rPr b="0" lang="zh-CN"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set the uncertainty as 20 because we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found an information that says we need .25kg of rice everyday however, grains doesn’t not only include rice its every foo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need 2800 calories everyday and 200grams=300calori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800/300*200=1.8k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e need 1.8kg of grains per pers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8*4*50=360k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e multiplied by four because four is the medium of 3,4,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It should be rare to have over five people in a family so we decided the range would only be from 3-5people per famil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60*14=5040k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11"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2-01T12:18:34Z</dcterms:modified>
  <cp:revision>17</cp:revision>
  <dc:subject/>
  <dc:title>~DJ’S Facility~</dc:title>
</cp:coreProperties>
</file>